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0.wmf" ContentType="image/x-wmf"/>
  <Override PartName="/ppt/media/image5.jpeg" ContentType="image/jpeg"/>
  <Override PartName="/ppt/media/image18.wmf" ContentType="image/x-wmf"/>
  <Override PartName="/ppt/media/image29.png" ContentType="image/png"/>
  <Override PartName="/ppt/media/image14.wmf" ContentType="image/x-wmf"/>
  <Override PartName="/ppt/media/image6.png" ContentType="image/png"/>
  <Override PartName="/ppt/media/image9.wmf" ContentType="image/x-wmf"/>
  <Override PartName="/ppt/media/image10.jpeg" ContentType="image/jpeg"/>
  <Override PartName="/ppt/media/image30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31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E4EF-C653-4B67-8B17-C8E5B7FBB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469B-F126-4CAF-9AA9-D61A95A27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62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ED68-5115-412A-88EF-438318B01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4117-7DE6-4F4E-BDB2-491C2B72A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41A4-31EE-48B4-952A-B52918D36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797A-AF19-4810-B79A-83DD1E7C2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E36D-810E-4A09-B7AD-70DF2EFAD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7AF2-1A0A-41D2-B2AE-913A94030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62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B2F0-9541-4FA8-B8E7-CB9C1961A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3D3F-52FA-4477-BEAC-1AA8330CC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62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8BA0-272A-4DEC-B2A7-5F6CCAA0D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62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61AC-1ED2-4548-80D4-7E0C1DC14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62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652-2C05-490B-9296-047613A3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808-5C3E-4A83-A7C2-7936BD88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EE8-55FC-4948-A699-4D16F57D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CDC-77B1-4E4B-A7EB-F9BEC657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816-1CDA-4052-9AF8-52A2D5C2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E3B-2E00-4868-951D-7F6EF750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67C-33C7-4034-B3A0-5D4A911C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A3F-49DC-4808-B016-3CFAC249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AC3-5566-43C7-A3B4-64DF9354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77F-2869-4ACE-8CE8-CF85324C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D9E-4B57-4568-8D2B-41A88C41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358-7B05-4265-AA6D-3F0A7B99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E01177DC-AA54-4E21-9846-18B07E7959AF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ABRIC WP1.2 Broadband Data Path:</a:t>
            </a:r>
            <a:br>
              <a:rPr sz="36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tocols and Processor Interfac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onn 20/09/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lph Spe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University of Manch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2000" cy="2019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92160" y="4713120"/>
            <a:ext cx="29689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6880" y="4718160"/>
            <a:ext cx="257472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4600" y="2835360"/>
            <a:ext cx="0" cy="190800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0080" y="2838600"/>
            <a:ext cx="0" cy="19080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160960"/>
            <a:ext cx="17622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41960" y="2174760"/>
            <a:ext cx="17607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40320" y="2390760"/>
            <a:ext cx="17622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0040" y="0"/>
            <a:ext cx="8496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Times New Roman"/>
              </a:rPr>
              <a:t>Photos at The P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112" t="0" r="14088" b="0"/>
          <a:stretch/>
        </p:blipFill>
        <p:spPr>
          <a:xfrm>
            <a:off x="2405160" y="3281400"/>
            <a:ext cx="2938320" cy="3110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15672" t="26608" r="15723" b="7618"/>
          <a:stretch/>
        </p:blipFill>
        <p:spPr>
          <a:xfrm>
            <a:off x="7091280" y="1044720"/>
            <a:ext cx="1968480" cy="272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10669" t="9987" r="10157" b="0"/>
          <a:stretch/>
        </p:blipFill>
        <p:spPr>
          <a:xfrm>
            <a:off x="1084320" y="652320"/>
            <a:ext cx="2212920" cy="313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rcRect l="12209" t="8768" r="20838" b="23546"/>
          <a:stretch/>
        </p:blipFill>
        <p:spPr>
          <a:xfrm>
            <a:off x="4206960" y="650880"/>
            <a:ext cx="2158920" cy="3152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00120" y="2592360"/>
            <a:ext cx="1463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7520" indent="-317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 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16160" y="673200"/>
            <a:ext cx="2313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7520" indent="-317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st-bed S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31040" y="738360"/>
            <a:ext cx="2570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7520" indent="-317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duction S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65280" y="6032520"/>
            <a:ext cx="2786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7520" indent="-317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ptical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60" y="4905360"/>
            <a:ext cx="2024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7520" indent="-317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FA4-FF66-465D-88FA-3D40D648157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127400" y="3409920"/>
            <a:ext cx="5016600" cy="1540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24160" y="793800"/>
            <a:ext cx="5023080" cy="2736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4 Gbps on G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ÉANT</a:t>
            </a: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:  UDP Throughput 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9600" y="896400"/>
            <a:ext cx="372096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Kernel </a:t>
            </a: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2.6.20-web100_pktd-p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Myricom 10G-PCIE-8A-R Fibr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x-usecs=25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oalescenc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TU 90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x throughput </a:t>
            </a: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4.199 G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ending host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3 CPUs  i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&lt;8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µ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ckets,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 CPU is &gt;90% in kernel mo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 ~10% soft 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Receiving ho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CPUs  i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&lt;8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µ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ckets,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 CPU is ~37% in kernel mo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 ~9% soft 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129200" y="4840200"/>
            <a:ext cx="5014800" cy="15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572-1FAC-4B4D-B1C5-1115CED9F3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3480" y="0"/>
            <a:ext cx="6913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4 Gig Flows on G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ÉANT</a:t>
            </a: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: 1-way delay 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9240" y="682200"/>
            <a:ext cx="3787560" cy="24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Kernel </a:t>
            </a: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2.6.20-web100_pktd-p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Myricom 10G-PCIE-8A-R Fib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alescence 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1-way delay stable at 23.435 </a:t>
            </a: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Arial"/>
              </a:rPr>
              <a:t>µ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Peak separation 86 </a:t>
            </a: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Arial"/>
              </a:rPr>
              <a:t>µ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Arial"/>
              </a:rPr>
              <a:t>~40 µs extra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21040" y="704880"/>
            <a:ext cx="5058000" cy="2789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023920" y="2793960"/>
            <a:ext cx="168768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11040" y="3459240"/>
            <a:ext cx="8562600" cy="2797200"/>
            <a:chOff x="311040" y="3459240"/>
            <a:chExt cx="8562600" cy="2797200"/>
          </a:xfrm>
        </p:grpSpPr>
        <p:sp>
          <p:nvSpPr>
            <p:cNvPr id="141" name=""/>
            <p:cNvSpPr/>
            <p:nvPr/>
          </p:nvSpPr>
          <p:spPr>
            <a:xfrm>
              <a:off x="311040" y="4670280"/>
              <a:ext cx="3576600" cy="14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5360" indent="-225360">
                <a:lnSpc>
                  <a:spcPct val="100000"/>
                </a:lnSpc>
                <a:buClr>
                  <a:srgbClr val="cc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0000"/>
                  </a:solidFill>
                  <a:latin typeface="Times New Roman"/>
                </a:rPr>
                <a:t>Lab Tests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eak separation 86 </a:t>
              </a: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µ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~40 µs extra de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cc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0000"/>
                  </a:solidFill>
                  <a:latin typeface="Times New Roman"/>
                </a:rPr>
                <a:t>Lightpath adds no unwanted eff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cc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3824280" y="3459240"/>
              <a:ext cx="5049360" cy="27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6F9-6D14-42E0-9DD8-FB749029FD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44640" y="0"/>
            <a:ext cx="6913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4 Gig Flows on G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ÉANT</a:t>
            </a: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: Jitter hist 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9600" y="682560"/>
            <a:ext cx="3720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Kernel </a:t>
            </a: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2.6.20-web100_pktd-p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Myricom 10G-PCIE-8A-R Fib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alescence 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Peak separation ~36 </a:t>
            </a: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Arial"/>
              </a:rPr>
              <a:t>µ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Arial"/>
              </a:rPr>
              <a:t>Factor 100 sm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36520" y="2212920"/>
            <a:ext cx="8735760" cy="2071800"/>
            <a:chOff x="236520" y="2212920"/>
            <a:chExt cx="8735760" cy="207180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236520" y="2516040"/>
              <a:ext cx="4367880" cy="176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596840" y="2516040"/>
              <a:ext cx="437544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177520" y="2212920"/>
              <a:ext cx="37213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acket separation 300 </a:t>
              </a: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µ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7320" y="2214360"/>
              <a:ext cx="37216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acket separation 100 </a:t>
              </a: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µ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62080" y="4299120"/>
            <a:ext cx="8710200" cy="2071080"/>
            <a:chOff x="262080" y="4299120"/>
            <a:chExt cx="8710200" cy="20710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262080" y="4602240"/>
              <a:ext cx="4368240" cy="176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4596480" y="4602240"/>
              <a:ext cx="4375800" cy="176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85160" y="4299120"/>
              <a:ext cx="37216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0000"/>
                  </a:solidFill>
                  <a:latin typeface="Times New Roman"/>
                </a:rPr>
                <a:t>Lab Tests: Lightpath adds no eff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61F-D9B2-4A4C-B707-1ACD35B95F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9246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4 Gig Flows on G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ÉANT</a:t>
            </a: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: UDP Flow Stability 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9240" y="1282320"/>
            <a:ext cx="3497400" cy="50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Kernel </a:t>
            </a: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2.6.20-web100_pktd-p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Myricom 10G-PCIE-8A-R Fibr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alescence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TU 90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cket spacing 18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ials send 10 M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Times New Roman"/>
              </a:rPr>
              <a:t>Ran for 26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Throughput very stable</a:t>
            </a:r>
            <a:br>
              <a:rPr sz="1600"/>
            </a:b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3.9795 G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Occasional trials have packet loss ~40 in 10M - investig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759120" y="1274760"/>
            <a:ext cx="5207040" cy="2970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8680" y="4641840"/>
            <a:ext cx="539604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Our thanks go to all our collabo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DANTE really provided “Bandwidth on Dem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A record 6 hours !  inclu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Driving to the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Installing the P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Provisioning the Light-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4E0-2EAA-4429-9630-28DFFEAE04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11200" y="819000"/>
            <a:ext cx="819792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lassic Bottlen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0 Gbit/s input 4 Gbit/s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se udpmon to send a stream of spaced UDP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easure packet number of first lost frame as function of w packet spacing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17720" y="4192560"/>
            <a:ext cx="3809880" cy="2138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95800" y="4179960"/>
            <a:ext cx="3818160" cy="2144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73240" y="0"/>
            <a:ext cx="6308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Alcatel Buffer size: Metho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604880" y="2571840"/>
                <a:ext cx="5181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le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1lost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w*R</m:t>
                    </m:r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041480" y="3360600"/>
                <a:ext cx="67593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los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/Q</m:t>
                    </m:r>
                    <m:r>
                      <m:rPr>
                        <m:lit/>
                        <m:nor/>
                      </m:rPr>
                      <m:t xml:space="preserve">le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w*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rPr>
                        <m:lit/>
                        <m:nor/>
                      </m:rPr>
                      <m:t xml:space="preserve">/Q</m:t>
                    </m:r>
                    <m:r>
                      <m:rPr>
                        <m:lit/>
                        <m:nor/>
                      </m:rPr>
                      <m:t xml:space="preserve">le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105520" y="878040"/>
            <a:ext cx="378936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Slope gives buff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~57 k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D17-19A1-452C-B141-19347FAA829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WP1.2.2 Processor Interfa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versity of Berkeley iBOB design (Dan Werthei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tested iBOBs delivered to JBO in Jun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mware being developed -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ona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ority: 10 GE data transfer through CX4 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BOB connects via VSI-H to EVLA/e-MERLIN station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totype station board tested at Penticton- new version will b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of SBs to JBO expected after end of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inge tests will need correlator cards – some time in 200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64F-D48C-40B5-9355-B64D8444C6A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Connection to e-MERLI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838080"/>
            <a:ext cx="8572680" cy="5487840"/>
            <a:chOff x="228600" y="838080"/>
            <a:chExt cx="8572680" cy="5487840"/>
          </a:xfrm>
        </p:grpSpPr>
        <p:sp>
          <p:nvSpPr>
            <p:cNvPr id="169" name=""/>
            <p:cNvSpPr/>
            <p:nvPr/>
          </p:nvSpPr>
          <p:spPr>
            <a:xfrm>
              <a:off x="5257800" y="5182200"/>
              <a:ext cx="7999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nsa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86200" y="5182200"/>
              <a:ext cx="7999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JB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4496400"/>
              <a:ext cx="79992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JB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72480" y="4496400"/>
              <a:ext cx="79992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J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4839480"/>
              <a:ext cx="1714320" cy="68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MERLIN CORRE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9480" y="5525280"/>
              <a:ext cx="799920" cy="2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4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29480" y="5753520"/>
              <a:ext cx="799920" cy="4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r fibre if &gt; 15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86280" y="5525280"/>
              <a:ext cx="799920" cy="22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4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720" y="1866960"/>
              <a:ext cx="571320" cy="34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86120" y="1066680"/>
              <a:ext cx="799920" cy="22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1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6200" y="952560"/>
              <a:ext cx="799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86400" y="952560"/>
              <a:ext cx="571320" cy="354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wit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57480" y="952560"/>
              <a:ext cx="13712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tion Board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720" y="952560"/>
              <a:ext cx="571320" cy="34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57200" y="838440"/>
              <a:ext cx="34272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85440" y="838440"/>
              <a:ext cx="11412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5440" y="838440"/>
              <a:ext cx="11412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71520" y="952560"/>
              <a:ext cx="45720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71520" y="1296360"/>
              <a:ext cx="45720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952560"/>
              <a:ext cx="68580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1296360"/>
              <a:ext cx="68580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72480" y="952560"/>
              <a:ext cx="685440" cy="354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wit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8720" y="1066680"/>
              <a:ext cx="571320" cy="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8720" y="1409760"/>
              <a:ext cx="57132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1409760"/>
              <a:ext cx="571320" cy="3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86120" y="1981080"/>
              <a:ext cx="799920" cy="2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1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200" y="1866240"/>
              <a:ext cx="799920" cy="6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57480" y="1866240"/>
              <a:ext cx="13712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tion Board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57200" y="1752120"/>
              <a:ext cx="34272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85440" y="1752120"/>
              <a:ext cx="1141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85440" y="1752120"/>
              <a:ext cx="11412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71520" y="1866240"/>
              <a:ext cx="457200" cy="34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71520" y="2210040"/>
              <a:ext cx="45720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00400" y="1866240"/>
              <a:ext cx="685800" cy="34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2210040"/>
              <a:ext cx="685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28720" y="1981080"/>
              <a:ext cx="57132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8720" y="2324160"/>
              <a:ext cx="57132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" y="2324160"/>
              <a:ext cx="571320" cy="3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2720" y="3696840"/>
              <a:ext cx="5713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86120" y="2896560"/>
              <a:ext cx="799920" cy="2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1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86200" y="2782080"/>
              <a:ext cx="799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57480" y="2782080"/>
              <a:ext cx="13712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tion Board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720" y="2782080"/>
              <a:ext cx="571320" cy="34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57200" y="2667600"/>
              <a:ext cx="34272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85440" y="2667960"/>
              <a:ext cx="11412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85440" y="2667960"/>
              <a:ext cx="11412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71520" y="2782080"/>
              <a:ext cx="45720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1520" y="3125520"/>
              <a:ext cx="45720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0400" y="2782080"/>
              <a:ext cx="68580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00400" y="3125520"/>
              <a:ext cx="68580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28720" y="2896560"/>
              <a:ext cx="571320" cy="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8720" y="3239640"/>
              <a:ext cx="57132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" y="3239640"/>
              <a:ext cx="571320" cy="3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86120" y="3810240"/>
              <a:ext cx="799920" cy="22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1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86200" y="3696120"/>
              <a:ext cx="799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57480" y="3696120"/>
              <a:ext cx="13712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tion Board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57200" y="3582000"/>
              <a:ext cx="3427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85440" y="3582000"/>
              <a:ext cx="11412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85440" y="3582000"/>
              <a:ext cx="1141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71520" y="3696120"/>
              <a:ext cx="457200" cy="34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71520" y="4039920"/>
              <a:ext cx="45720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0400" y="3696120"/>
              <a:ext cx="685800" cy="34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4039920"/>
              <a:ext cx="68580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28720" y="3810240"/>
              <a:ext cx="571320" cy="10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28720" y="4154040"/>
              <a:ext cx="57132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5800" y="4154040"/>
              <a:ext cx="571320" cy="3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15480" y="4953600"/>
              <a:ext cx="571320" cy="34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229960" y="4840560"/>
              <a:ext cx="342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8457840" y="4840920"/>
              <a:ext cx="11412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8457840" y="4840920"/>
              <a:ext cx="1141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29400" y="5525280"/>
              <a:ext cx="799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57800" y="5525280"/>
              <a:ext cx="57132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wit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5525280"/>
              <a:ext cx="799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86200" y="5525280"/>
              <a:ext cx="5713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wit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29680" y="5525280"/>
              <a:ext cx="685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" y="5525280"/>
              <a:ext cx="13712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tion Board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57480" y="5525280"/>
              <a:ext cx="4568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57480" y="5868360"/>
              <a:ext cx="4568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713960" y="5639400"/>
              <a:ext cx="571320" cy="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713960" y="5982480"/>
              <a:ext cx="57132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6120" y="4039200"/>
              <a:ext cx="799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86120" y="3125160"/>
              <a:ext cx="7999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86120" y="2210040"/>
              <a:ext cx="7999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6120" y="1295640"/>
              <a:ext cx="7999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086280" y="5753520"/>
              <a:ext cx="799920" cy="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58080" y="2210040"/>
              <a:ext cx="914400" cy="476280"/>
            </a:xfrm>
            <a:custGeom>
              <a:avLst/>
              <a:gdLst/>
              <a:ahLst/>
              <a:rect l="l" t="t" r="r" b="b"/>
              <a:pathLst>
                <a:path w="1440" h="630">
                  <a:moveTo>
                    <a:pt x="0" y="390"/>
                  </a:moveTo>
                  <a:cubicBezTo>
                    <a:pt x="195" y="195"/>
                    <a:pt x="390" y="0"/>
                    <a:pt x="540" y="30"/>
                  </a:cubicBezTo>
                  <a:cubicBezTo>
                    <a:pt x="690" y="60"/>
                    <a:pt x="780" y="510"/>
                    <a:pt x="900" y="570"/>
                  </a:cubicBezTo>
                  <a:cubicBezTo>
                    <a:pt x="1020" y="630"/>
                    <a:pt x="1170" y="420"/>
                    <a:pt x="1260" y="390"/>
                  </a:cubicBezTo>
                  <a:cubicBezTo>
                    <a:pt x="1350" y="360"/>
                    <a:pt x="1395" y="375"/>
                    <a:pt x="1440" y="390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457520" y="5525280"/>
              <a:ext cx="799920" cy="475560"/>
            </a:xfrm>
            <a:custGeom>
              <a:avLst/>
              <a:gdLst/>
              <a:ahLst/>
              <a:rect l="l" t="t" r="r" b="b"/>
              <a:pathLst>
                <a:path w="1440" h="630">
                  <a:moveTo>
                    <a:pt x="0" y="390"/>
                  </a:moveTo>
                  <a:cubicBezTo>
                    <a:pt x="195" y="195"/>
                    <a:pt x="390" y="0"/>
                    <a:pt x="540" y="30"/>
                  </a:cubicBezTo>
                  <a:cubicBezTo>
                    <a:pt x="690" y="60"/>
                    <a:pt x="780" y="510"/>
                    <a:pt x="900" y="570"/>
                  </a:cubicBezTo>
                  <a:cubicBezTo>
                    <a:pt x="1020" y="630"/>
                    <a:pt x="1170" y="420"/>
                    <a:pt x="1260" y="390"/>
                  </a:cubicBezTo>
                  <a:cubicBezTo>
                    <a:pt x="1350" y="360"/>
                    <a:pt x="1395" y="375"/>
                    <a:pt x="1440" y="390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5829480" y="5753880"/>
              <a:ext cx="7999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8115120" y="5410800"/>
              <a:ext cx="114120" cy="34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29960" y="952560"/>
              <a:ext cx="571320" cy="354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LBI Mk V b receiv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58280" y="1180800"/>
              <a:ext cx="571320" cy="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58280" y="2210040"/>
              <a:ext cx="5713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58280" y="3125160"/>
              <a:ext cx="5713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58280" y="4039200"/>
              <a:ext cx="571320" cy="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57320" y="838080"/>
              <a:ext cx="360" cy="3772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057400" y="4610520"/>
              <a:ext cx="7999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57400" y="4610520"/>
              <a:ext cx="360" cy="1715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28600" y="6325560"/>
              <a:ext cx="182880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28600" y="4610520"/>
              <a:ext cx="7999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28520" y="838080"/>
              <a:ext cx="360" cy="3772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028160" y="838080"/>
              <a:ext cx="182844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140-4402-4307-9E1F-EC4EE8E4D0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IBOB under tes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117440" y="1143000"/>
            <a:ext cx="690912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CAB-9950-4BC2-979B-5D790A8C64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iBOB Test Configur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00200" y="1447560"/>
            <a:ext cx="4800600" cy="4915440"/>
            <a:chOff x="1600200" y="1447560"/>
            <a:chExt cx="4800600" cy="4915440"/>
          </a:xfrm>
        </p:grpSpPr>
        <p:sp>
          <p:nvSpPr>
            <p:cNvPr id="274" name=""/>
            <p:cNvSpPr/>
            <p:nvPr/>
          </p:nvSpPr>
          <p:spPr>
            <a:xfrm>
              <a:off x="2971800" y="4076640"/>
              <a:ext cx="57132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S2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42920" y="4076640"/>
              <a:ext cx="57132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JT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9000" y="2247840"/>
              <a:ext cx="1485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ptional second CX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1561680"/>
              <a:ext cx="1485720" cy="2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10Gbps up to 15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00200" y="1447560"/>
              <a:ext cx="18288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figured as network testing devi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00600" y="1447560"/>
              <a:ext cx="148572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etwork P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wit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29000" y="1790640"/>
              <a:ext cx="137124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2476440"/>
              <a:ext cx="1371240" cy="7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00200" y="4647960"/>
              <a:ext cx="1828800" cy="171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ocal P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ownload FPGA firmware over JTA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ocal Monitoring over RS23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moved when firmware is stab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942920" y="3619080"/>
              <a:ext cx="360" cy="10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971800" y="3619080"/>
              <a:ext cx="360" cy="10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86400" y="4076640"/>
              <a:ext cx="7999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/100 Eth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486400" y="3618720"/>
              <a:ext cx="360" cy="137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2000" y="4991040"/>
              <a:ext cx="1828800" cy="12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mote P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mote login to network PC to run tests from JBO, Manchester or elsewhe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306-13A0-498B-B968-2E7FA3435A7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ntents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1.2.1 Broadband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1.2.2 Broadband data processing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7D7-9AED-4ED5-919D-560CDAACC2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iBOB test set up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117440" y="1143000"/>
            <a:ext cx="690912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4E1-700A-4347-B8B1-21DFED0A4A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mulink Design for Generating Bursts of UDP Packets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982800" y="1143000"/>
            <a:ext cx="71784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782-A8BF-41AE-9E55-2D0F847B0D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7920" y="-36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UDP Throughput vs. Packet Spac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224160" y="1886040"/>
            <a:ext cx="5738760" cy="2889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9240" y="911160"/>
            <a:ext cx="34974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Kernel </a:t>
            </a: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2.6.20-web100_pktd-p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Myricom 10G-PCIE-8A-R CX4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x-usecs=25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Coalescence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TU 9000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UDP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x throughput </a:t>
            </a:r>
            <a:r>
              <a:rPr b="1" lang="en-GB" sz="1400" spc="-1" strike="noStrike">
                <a:solidFill>
                  <a:srgbClr val="cc0000"/>
                </a:solidFill>
                <a:latin typeface="Times New Roman"/>
              </a:rPr>
              <a:t>9.4 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iB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cket 8234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: 8192+ Header: 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00 MHz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x rate 6.6 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1" lang="en-GB" sz="1400" spc="-1" strike="noStrike">
                <a:solidFill>
                  <a:srgbClr val="cc0000"/>
                </a:solidFill>
                <a:latin typeface="Times New Roman"/>
              </a:rPr>
              <a:t> 6.44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E0C-59F1-470F-804E-7C438830F2E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Network PC to test 10Gbps capability of i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RP, PING and send and receive UDP packets using software running on the iBOB’s PowerP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Gbps packets sent using FPGA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ext few wee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network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VSI-E control protocols using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ext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OB to iBOB transmission over a network using a modified RTP packet header. Algorithms to buffer and re-order late packets in the receiver need to be developed and te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lgorithms on a Xilinx development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move the e-Merlin delay mode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the n x 10kHz 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a 128MHz band into VLBI compatible sub-b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on the Virtex 4 SX35 chips on the station 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170-189E-46C8-AA47-0474547B417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066680" y="228600"/>
            <a:ext cx="2210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?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4723920"/>
            <a:ext cx="79250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y Midnight Maroon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ct information:    ralph.spencer@manchester.ac.u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647960" cy="348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171-2163-4116-B14A-B24CBC6DB1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P1.2.1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estigation of suitable protocols for real time e-VLBI in EVN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FTE funded from EXPReS, RA: Stephen Kersh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ibuted work over last year funded by ESLE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ategic document May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tocols performance report (interim) Jun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P1.2.2 Broadband Data Processo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face to e-MERLIN corre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bps input (from Ons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x 1 Gbps output to JIVE (SA1, EXP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FTE (EXPReS+FABRIC), Johnathan Hargreaves (since Dec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iBOBs: Xilinx vertex 2 FP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-MERLIN station boards: Xilinx I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133-96EE-47EA-8D09-2E40EF3AB0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WP1.2.1 Protocols: What’s in the report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CP_delay – constant bit rate data transfer over 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ction to lost packets – data delay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n catch up, needs large data buffers and provided link bandwidth adeq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ractical, needs alternativ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LBI_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DP based transfer system using ring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ows selective packet dro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lementation on PCs works, tests with corre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lemented on MkVAs – code diversion (JIVE/JB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th work at 512 Mb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Gbps tests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C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tagram congest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Linux kernel, uses selectable congestion control algorithm (C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eds suitable CCID for e-VL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rther work needed if to be sued in eVL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A22-3984-43CC-B8AD-3EC916EF7E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WP1.2.1 Protocols: What’s now/next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on TCP-delay completed -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LBI_UDP ideas incorporated into Haro’s/Arpad’s code – 512 Mbps successful on Mk5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tleneck on VLBI_UDP identified: selective packet dropping implemented (can run 1024 Mbps VLBI over 1 GE) -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i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on multi-destination protocols initiated  -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eph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SI-E implemented, trans-Atlantic tests underway -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Gbps tests undertaken on GEANT2 research network -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s to Onsala being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BCE-A9F8-42B5-AEAB-C91BF84F95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1680" y="342720"/>
            <a:ext cx="76150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4 Gbit flows over </a:t>
            </a:r>
            <a:r>
              <a:rPr b="1" lang="en-GB" sz="3600" spc="-1" strike="noStrike">
                <a:solidFill>
                  <a:srgbClr val="80008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  <a:ea typeface="Arial"/>
              </a:rPr>
              <a:t>É</a:t>
            </a:r>
            <a:r>
              <a:rPr b="1" lang="en-GB" sz="3600" spc="-1" strike="noStrike">
                <a:solidFill>
                  <a:srgbClr val="800080"/>
                </a:solidFill>
                <a:latin typeface="Times New Roman"/>
              </a:rPr>
              <a:t>ANT2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4200" y="982440"/>
            <a:ext cx="874728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up 4 Gigabit Lightpath Between 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2 P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boration with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T2 Testbed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London – Prague – Lond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London-Amsterdam-Frankfurt-Prague-Paris-Lo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s in the DANTE London PoP with 10 Gigabit N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Tes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 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put, jitter, packet loss, 1-way delay,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ous (days) Data Flows – VLBI_UDP and udpm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Gigabit TCP performance with current ker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Gigabit CBR over 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ence for FPGA Ethernet packe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TE Interes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Gigabit TCP 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ffect of (Alcatel 1678 MCC 10GE port) buffer size on bursty TCP using BW limited Light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Gigabit London –New York Alcatel-Ciena Interoper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2AD-1BD9-407D-A8AE-11EB8124DC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8840" y="378000"/>
            <a:ext cx="8496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The G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É</a:t>
            </a: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ANT2 Test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76560" y="1074600"/>
            <a:ext cx="5862600" cy="4065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84320" y="2446200"/>
            <a:ext cx="410976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0 Gigabit SDH back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lcatel 1678 MC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E and 10GE client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de location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mster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ankf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n do lightpath routing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o make paths of different RT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cate the PCs in Lond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CBA-76B2-42EA-BB10-E5B8FF19A30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1720" y="2894040"/>
            <a:ext cx="3622680" cy="320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8840" y="378000"/>
            <a:ext cx="8496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Times New Roman"/>
              </a:rPr>
              <a:t>Provisioning the lightpath on ALCATEL M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360" y="1617840"/>
            <a:ext cx="374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ome jiggery-pokery needed with the NMS to force a “looped back” lightpath London-Prague-Lond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anual XCs (using element manager) possible but hard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96 needed + other operations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stead used RM to create two parallel VC-4-28v (single-ended) Ethernet private line (EPL) pa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strained to transit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n manually joined paths in 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nly 28 manually created XCs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25800" y="1073160"/>
            <a:ext cx="3780000" cy="371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4C3-1FBC-489A-BE37-2A2B9FE9FFB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8840" y="378000"/>
            <a:ext cx="8496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Times New Roman"/>
              </a:rPr>
              <a:t>Provisioning the lightpath on ALCATEL MC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480" y="1617840"/>
            <a:ext cx="4109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aths come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Transient) alarms cl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sult: provisioned a path of 28 virtually concatenated VC-4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K-NL-DE-NL-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ptical path ~4150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ith dispersion compensation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~4900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TT 46.7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33720" y="1227240"/>
            <a:ext cx="4907160" cy="386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8FF-3ED0-4075-9E32-A3CCAF4DAAC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Hughes-Jones</cp:lastModifiedBy>
  <dcterms:modified xsi:type="dcterms:W3CDTF">2007-09-20T08:24:08Z</dcterms:modified>
  <cp:revision>32</cp:revision>
  <dc:subject/>
  <dc:title>Slide 1</dc:title>
</cp:coreProperties>
</file>